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27.png" ContentType="image/png"/>
  <Override PartName="/ppt/media/image15.png" ContentType="image/png"/>
  <Override PartName="/ppt/media/image25.png" ContentType="image/png"/>
  <Override PartName="/ppt/media/image22.png" ContentType="image/png"/>
  <Override PartName="/ppt/media/image4.wmf" ContentType="image/x-wmf"/>
  <Override PartName="/ppt/media/image19.png" ContentType="image/png"/>
  <Override PartName="/ppt/media/image16.jpeg" ContentType="image/jpeg"/>
  <Override PartName="/ppt/media/image14.jpeg" ContentType="image/jpeg"/>
  <Override PartName="/ppt/media/image21.gif" ContentType="image/gif"/>
  <Override PartName="/ppt/media/image1.png" ContentType="image/png"/>
  <Override PartName="/ppt/media/image24.png" ContentType="image/png"/>
  <Override PartName="/ppt/media/image2.wmf" ContentType="image/x-wmf"/>
  <Override PartName="/ppt/media/image7.jpeg" ContentType="image/jpe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8D28-D5CD-4D24-AFAA-284275E9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850-AD29-49AF-97B3-919D8C42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853-DCBA-4C51-B8B6-F82ED70E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B10-8FEA-4FF7-8973-515B68F1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9B0A-9FD8-4465-AD73-34ACA0FC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95C9-4E07-4B41-86F8-E668E7FB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B02D-5FF2-4551-B78F-D609AFAF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1ACF-E99D-420E-9999-E77EEF3D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16BE-FB04-4257-95C0-E21BD960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B3BA-0A8F-4253-A871-1B869481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7392-71E9-4BB1-846A-342E0734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ED38-2737-48CE-A86A-EB465A6E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51D3-DA6B-4B12-AF3E-39036DB1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B5DD-985D-4653-B3CA-9ABA8EA5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DC04-29B7-46BF-8A49-381C77CF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FECF-1BF3-4692-A97F-F543953A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79FB-FF9D-431A-8011-5C401EA6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AEBB-DA0F-4DFA-8A59-1AA36C88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AA2-DCDD-4A48-B709-D451AB7D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D8D-BBCE-4988-8834-A4FDD92A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45C2-2869-4D2A-82E0-11944653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E540-E6BB-42C3-9B52-76D3D72D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76E-973F-4DC9-B883-E4E42A36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6414-E453-4C75-8C6C-09801253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AB44-9FC7-4C79-A8BC-16BE1E510D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3929-D77B-43F3-8F5D-9792F506C0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itesatlas.com/Atlas/PolAtlas/polnav.nv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eograph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4" descr="polna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600200" y="1676520"/>
            <a:ext cx="107442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geographic factor has often made Korea a key region for those seeking to control East Asia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1) long coastline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3) mountai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2) location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4) clim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28600" y="0"/>
            <a:ext cx="5867280" cy="41292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71840" y="533160"/>
            <a:ext cx="2438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1 Which statement about the trip taken by Emperor Mansa Musa is accurat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1) The trip extended beyond North African trade rout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2) Mansa Musa used the Mediterranean Sea to reach Mecc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3) The route primarily followed major river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4) Mansa Musa traveled to Fez on his way to Mecc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62120" y="45720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2 Which conclusion about trade is best supported by the information on this map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1) Timbuktu was a center of trade in West Afric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2) The Sahara Desert prevented trad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3) Cairo and Mecca were trading partner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4) West African gold and salt were traded along the Zaire Rive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198108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gyp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Picture 5" descr="delta"/>
          <p:cNvPicPr/>
          <p:nvPr/>
        </p:nvPicPr>
        <p:blipFill>
          <a:blip r:embed="rId1"/>
          <a:stretch/>
        </p:blipFill>
        <p:spPr>
          <a:xfrm>
            <a:off x="685800" y="2362320"/>
            <a:ext cx="4114800" cy="3800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egyptmap"/>
          <p:cNvPicPr/>
          <p:nvPr/>
        </p:nvPicPr>
        <p:blipFill>
          <a:blip r:embed="rId2"/>
          <a:stretch/>
        </p:blipFill>
        <p:spPr>
          <a:xfrm>
            <a:off x="5867280" y="533520"/>
            <a:ext cx="268920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for Essay on Egyp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erts – “Red Lands” – Nubian, Libyan, and Saha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le River – “Black Lands” surround w/silt; floods annually – need to build irrigation, has cataracts (waterfalls), delta (tributaries protec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pact – protects, stability of dynasties, need for strong central authority, culture based on Nile “Land of Living” vs. “Land of Dead”, architecture of sandstone, papyrus for books; build Aswan High Dam (no oil); Suez Canal built to capitalize on strategic location btw Mediterranean and Red se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geographic feature had the greatest influence on the development of ancient civilization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nse fores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untain pas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mooth coastli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iver valle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uez Canal, the Strait of Hormuz, and the Strait of Gibraltar are important because the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vent attacks on bordering nation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ol access to vital trade rout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mit Russian access to warm-water point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hibit the movement of ships carrying nuclear weapon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sopotam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4" name="Picture 7" descr="map01mes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5022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9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 for Mesopotam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rtile Crescent – two rivers:  Tigris and Euphra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ood erratically – need to build dams and dyk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sy to navigate rivers – lots of invasions, cultural diffusion, political instabil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" name="Picture 5" descr="map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for Ch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THNOCENTRISM – caused by geographic barriers – Gobi Desert, Tien Shen Mts., Himalayas, Pacific Oce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vers – Yellow (Huange-He) “River of Sorrow” – heavy silt, cut deep into mts; Yangtze – both rivers flow west to ea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aptations – Silk Road, Great Wall, Grand Canal, terrace farming along Yello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statement best describes an impact of geography on the history of the Korean peninsula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rge deserts have led to isol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cation has led to invasion and occupation by other n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ck of rivers has limited food produc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ck of natural resources has prevented development of manufactur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on Ind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b-continent of As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ninsu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so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us River – navigable (similar to Tigri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ndu-Kush mts and Himalayas protect and isol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can plateau – center – inhospitabl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ts of trade in Indian Oce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ilroad handy to unite large landma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India, Bangladesh and much of Southeast Asia, agricultural productivity is most affected by th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asonal monso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navigable riv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erous deser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ld clima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1148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ch generalization is best supported by the information on this map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1) No trade occurred between East Africa and the Persian Gulf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2) The monsoon winds influenced trade between East Africa and Indi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3) Trading states developed primarily in the interior of East Afric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4) Trade encouraged the spread of Islam from East Africa to Arabi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265104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2428920" y="1712880"/>
            <a:ext cx="428616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on Gree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lis/Poleis will be divided by mountai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eat natural harbors for fishing and trade; strength of military is triremes for Athens not hopli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w natural rivers/springs – need to import food – colon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lcanic area – angry gods (land and sea – Zeus/Poseid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ch volcanic soil good for olives and grap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was one cause of the development of many small independent city-states in ancient Greec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eece and Rome were often at W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mountainous terrain of Greece resulted in widely scattered settlem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litary leaders found small Greek settlements easy to contr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Greek people had many different languages and relig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man Emp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5" descr="Map of the Roman Empire at its height"/>
          <p:cNvPicPr/>
          <p:nvPr/>
        </p:nvPicPr>
        <p:blipFill>
          <a:blip r:embed="rId1"/>
          <a:stretch/>
        </p:blipFill>
        <p:spPr>
          <a:xfrm>
            <a:off x="1371600" y="1828800"/>
            <a:ext cx="67816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for Roman Emp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aly is Peninsu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panded over three continents around Mediterranean S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 large – Roman legions need to build roads, aqueducts, bridges, wa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6868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yzantine Emp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Picture 5" descr="declinebyzantine.jpg (61873 bytes)"/>
          <p:cNvPicPr/>
          <p:nvPr/>
        </p:nvPicPr>
        <p:blipFill>
          <a:blip r:embed="rId1"/>
          <a:stretch/>
        </p:blipFill>
        <p:spPr>
          <a:xfrm>
            <a:off x="1066680" y="1447920"/>
            <a:ext cx="716292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can Emp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Picture 5" descr="map of Inca Empire"/>
          <p:cNvPicPr/>
          <p:nvPr/>
        </p:nvPicPr>
        <p:blipFill>
          <a:blip r:embed="rId1"/>
          <a:stretch/>
        </p:blipFill>
        <p:spPr>
          <a:xfrm>
            <a:off x="685800" y="1219320"/>
            <a:ext cx="2633760" cy="5638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MachuPicchu03"/>
          <p:cNvPicPr/>
          <p:nvPr/>
        </p:nvPicPr>
        <p:blipFill>
          <a:blip r:embed="rId2"/>
          <a:stretch/>
        </p:blipFill>
        <p:spPr>
          <a:xfrm>
            <a:off x="4648320" y="1600200"/>
            <a:ext cx="3504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for In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des Mountai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an Trail w/suspension bridg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race far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ztec Emp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Picture 5" descr="Aztec Chinampas"/>
          <p:cNvPicPr/>
          <p:nvPr/>
        </p:nvPicPr>
        <p:blipFill>
          <a:blip r:embed="rId1"/>
          <a:stretch/>
        </p:blipFill>
        <p:spPr>
          <a:xfrm>
            <a:off x="457200" y="2362320"/>
            <a:ext cx="4038480" cy="300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mitenoch"/>
          <p:cNvPicPr/>
          <p:nvPr/>
        </p:nvPicPr>
        <p:blipFill>
          <a:blip r:embed="rId2"/>
          <a:stretch/>
        </p:blipFill>
        <p:spPr>
          <a:xfrm>
            <a:off x="4648320" y="2286000"/>
            <a:ext cx="4343400" cy="31258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9"/>
          <p:cNvSpPr/>
          <p:nvPr/>
        </p:nvSpPr>
        <p:spPr>
          <a:xfrm>
            <a:off x="838080" y="54864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inamp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effect of a mountainous topography on Inca and Chinese civilizations was the development of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dustrializatio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ngle-crop econom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alinization projec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race farming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ich generalization about geography of Latin America is accurate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ographic features prevented foreign imperialis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rsh climatic conditions have prevented the development of large-scale agricultu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lack of geographic barriers facilitated the development of transportation and communication system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eat variations in latitude and landforms resulted in a diversity of climat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fr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Picture 8" descr="Larick3"/>
          <p:cNvPicPr/>
          <p:nvPr/>
        </p:nvPicPr>
        <p:blipFill>
          <a:blip r:embed="rId1"/>
          <a:stretch/>
        </p:blipFill>
        <p:spPr>
          <a:xfrm>
            <a:off x="304920" y="2057400"/>
            <a:ext cx="4038480" cy="2836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afr"/>
          <p:cNvPicPr/>
          <p:nvPr/>
        </p:nvPicPr>
        <p:blipFill>
          <a:blip r:embed="rId2"/>
          <a:stretch/>
        </p:blipFill>
        <p:spPr>
          <a:xfrm>
            <a:off x="4648320" y="1630440"/>
            <a:ext cx="44956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for Afr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erts – Sahara (north), Kalahari in sou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inent is plateau – all rivers (Nile and Congo) have catara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vannahs – high grasses where animals live – hard to farm, little urbanization, dispersed trib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inforest (Cong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tural resources – gold, diamonds, rubber – needs sal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vingstone will map out count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Picture 4" descr="gstr"/>
          <p:cNvPicPr/>
          <p:nvPr/>
        </p:nvPicPr>
        <p:blipFill>
          <a:blip r:embed="rId1"/>
          <a:stretch/>
        </p:blipFill>
        <p:spPr>
          <a:xfrm>
            <a:off x="533520" y="2209680"/>
            <a:ext cx="3886200" cy="3408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Bantu Migration"/>
          <p:cNvPicPr/>
          <p:nvPr/>
        </p:nvPicPr>
        <p:blipFill>
          <a:blip r:embed="rId2"/>
          <a:stretch/>
        </p:blipFill>
        <p:spPr>
          <a:xfrm>
            <a:off x="4738680" y="1936800"/>
            <a:ext cx="38577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statement about the geography of Africa is most accurat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ch of the land in Africa is below sea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variety of geographic barriers had served to promote cultural divers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 had an irregular coastline with many natural harbo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ch of the land in Africa is tundra and fores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Essa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has a region’s geography shaped its histor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has man adapted his environment to shape his need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Africa, an effect of topography and climate has been to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courage rapid industrialization of the interio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vent the development of kingdom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mote large-scale trade between African and Asi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mote the growth of diverse societi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ap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5" descr="Nara and Heian Japan"/>
          <p:cNvPicPr/>
          <p:nvPr/>
        </p:nvPicPr>
        <p:blipFill>
          <a:blip r:embed="rId1"/>
          <a:stretch/>
        </p:blipFill>
        <p:spPr>
          <a:xfrm>
            <a:off x="609480" y="1981080"/>
            <a:ext cx="2914920" cy="37245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seasia"/>
          <p:cNvPicPr/>
          <p:nvPr/>
        </p:nvPicPr>
        <p:blipFill>
          <a:blip r:embed="rId2"/>
          <a:stretch/>
        </p:blipFill>
        <p:spPr>
          <a:xfrm>
            <a:off x="4876920" y="2057400"/>
            <a:ext cx="3817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on Jap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chipelag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untains (Fuji) – forced to terrace far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lcanic/Tsunami – nature spirits (kami) worshiped in Shinto relig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tected by location and kamikaze winds (Mongol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d Korea as landbridge to Ch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cks natural resources – forced to imperialize to gain resources during Meiji Resto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Japan, a major economic problem has been the lack of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tural resourc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vestment capital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killed labo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perienced managemen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gla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Picture 5" descr="imperialism"/>
          <p:cNvPicPr/>
          <p:nvPr/>
        </p:nvPicPr>
        <p:blipFill>
          <a:blip r:embed="rId1"/>
          <a:stretch/>
        </p:blipFill>
        <p:spPr>
          <a:xfrm>
            <a:off x="1828800" y="1905120"/>
            <a:ext cx="58672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on Engla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eat natural harbors – makes it prime for naval supremacy (Armada, WW2), and imperialis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tural resources – coal, tin, timber – sparks Industrial Revo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1523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uss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Picture 5" descr="Terrain"/>
          <p:cNvPicPr/>
          <p:nvPr/>
        </p:nvPicPr>
        <p:blipFill>
          <a:blip r:embed="rId1"/>
          <a:stretch/>
        </p:blipFill>
        <p:spPr>
          <a:xfrm>
            <a:off x="228600" y="2046240"/>
            <a:ext cx="701028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Object 7"/>
          <p:cNvGraphicFramePr/>
          <p:nvPr/>
        </p:nvGraphicFramePr>
        <p:xfrm>
          <a:off x="5105520" y="0"/>
          <a:ext cx="4038480" cy="351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0"/>
                    <a:ext cx="403848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on Russ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urAsia – two contin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cks warm water po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locked by Turkey/Ottomans from Black Sea entrance to Mediterrane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ld and Large – difficult to conquer (Napoleon, Hitler) – center area is vast step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d scorched-earth policy to deter inva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cked sufficient oil and natural resources – build Tran-Siberian Railroad to get to Asia; fought Afghanistan War 1979 for oil; refuse to let Chechnya go because of oil ne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geographic factor has most strongly influenced Russia’s foreign policies and economic development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natural resourc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ast desert region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mited access to warm-water por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nsive mountain rang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Russian steppe is most similar in topography to th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untains in Switzerlan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erts in the Middle Eas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inforests in South Americ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vannas in Afric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ypical Multiple Choice Ques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cation of countries/physical features – England, India, Vietnam, Japan, Suez Canal, Andes Mountains, Mediterranean Sea etc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ypes of maps – cartographic, physical, politic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ographic feature – archipelago, peninsula, strait, canals, savannah, tund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preting Maps – trade, mig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ACTS OF 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MOUNTA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DIVIDE PEOPLE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creates cultural diversity (Andes Mts for Incas, Greece) even isolation (Chin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PROTECTS PEOP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lps for Italy, Himalayas for China and India, Andes for In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DIFFICULT TO FARM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have to introduce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terrace farming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Japan, Incan, Yellow River (Chin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ACTS OF 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RIV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UNITES PEOPLE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unifies cultures, ease of communication, increases tra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HELPS FARMING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creates fertile soils (early river civs – Nile (Egypt), Mesopotamia, Indus, and Yellow (China), may need to build dams/dykes/irrig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SACR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Ganges (Hindu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ACTS OF 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DESER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DIVIDES PEOPLE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hard to cross, creates cultural diversity and isolation (Sahara in Afric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LACK OF RESOURCES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no food can cause famines, need for tra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ACTS OF 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Verdana"/>
              </a:rPr>
              <a:t>MONSOON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India, China, Indonesia need rains to make food grow – if drought – famine, if floods – famine (build houses on stilts to protect from floods) // monsoon winds also help sailboats to travel Indian Oce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Verdana"/>
              </a:rPr>
              <a:t>COL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Russian steppes frozen (permafrost) – can not farm, need special houses, need access to warm water por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ACTS OF 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NATURAL 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Verdana"/>
              </a:rPr>
              <a:t>OI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needed by many countries like US and Russia – will have to import from Middle East (</a:t>
            </a:r>
            <a:r>
              <a:rPr b="0" lang="en-US" sz="2400" spc="-1" strike="noStrike">
                <a:solidFill>
                  <a:srgbClr val="ffc000"/>
                </a:solidFill>
                <a:latin typeface="Verdana"/>
              </a:rPr>
              <a:t>OPEC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Organization of Petroleum Exporting Countries) – wars will take place over accessing oil (Afghanistan War, Iran-Iraq War, </a:t>
            </a:r>
            <a:r>
              <a:rPr b="0" lang="en-US" sz="2400" spc="-1" strike="noStrike">
                <a:solidFill>
                  <a:srgbClr val="ffc000"/>
                </a:solidFill>
                <a:latin typeface="Verdana"/>
              </a:rPr>
              <a:t>Persian Gulf Wa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etc), </a:t>
            </a:r>
            <a:r>
              <a:rPr b="0" lang="en-US" sz="2400" spc="-1" strike="noStrike">
                <a:solidFill>
                  <a:srgbClr val="ffc000"/>
                </a:solidFill>
                <a:latin typeface="Verdana"/>
              </a:rPr>
              <a:t>Suez Canal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ll be used to access reg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Verdana"/>
              </a:rPr>
              <a:t>LACKING IT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– Japan will have to imperialize China because lacks natural resources and wants to industrializ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Verdana"/>
              </a:rPr>
              <a:t>HAVING IT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– England will dominate Industrial Revolution early on because of access to water, timber, and coa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4114800" cy="17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ich letter identifies the peninsula that is home to Mecca, the religious center of Islam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1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3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2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4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6291000" cy="4086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4572000" y="44956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6 Which letter identifies the peninsula that was the site of the Vietnam conflict and th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rocities of Pol Pot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1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3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2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4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of these nations is located closet to the Philippines, Malaysia, and Indonesia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ore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etnam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ali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kista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feature would most likely appear on a physical map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1) population densi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2) land usage patter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3) climatic patter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4) mountain rang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geographic similarity between Italy and India is that both of these countries are locat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1) on peninsul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2) on archipelag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3) between two ocea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4) south of the equa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1:07:03Z</dcterms:created>
  <dc:creator>Teacher</dc:creator>
  <dc:description/>
  <dc:language>en-US</dc:language>
  <cp:lastModifiedBy>Windows User</cp:lastModifiedBy>
  <dcterms:modified xsi:type="dcterms:W3CDTF">2014-01-23T18:35:10Z</dcterms:modified>
  <cp:revision>28</cp:revision>
  <dc:subject/>
  <dc:title>Geograph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